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7EB9-9690-4BD0-A278-75375762D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F2A6-C486-4855-98B0-C74E4F381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E273-7F35-4F6B-AE9B-9E1235E34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5B6C-4C85-4346-8665-076FCB9AAA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1633-0748-4A8A-92C5-51931E05BF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45B7-735F-433C-B09A-312F79FB2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5F99-946F-4963-871D-4CFD9A010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67D5-EEDD-4034-BB23-F6A9EE836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AE17-3D73-4F5F-8AC9-C40B5FA04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C01C-CD73-453A-AD4B-ED51A6667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C380-0F65-4611-AE06-672AC1E8C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453D-A4ED-4393-8264-41B59E200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Slide 3- </a:t>
            </a:r>
            <a:fld id="{FDEEF2F3-BEBE-480E-A7F9-E5254992A3EF}" type="slidenum">
              <a:rPr b="1" lang="en-US" sz="1200" spc="-1" strike="noStrike">
                <a:solidFill>
                  <a:srgbClr val="3333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86000" y="639756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, 2007, 2004 Pearson Education, Inc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-3281040" y="3281400"/>
            <a:ext cx="6858000" cy="295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5400000">
            <a:off x="-3065040" y="3358440"/>
            <a:ext cx="6856200" cy="136440"/>
          </a:xfrm>
          <a:prstGeom prst="rect">
            <a:avLst/>
          </a:prstGeom>
          <a:gradFill rotWithShape="0">
            <a:gsLst>
              <a:gs pos="0">
                <a:srgbClr val="c9c9c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0c2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80880"/>
            <a:ext cx="80773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509"/>
                </a:solidFill>
                <a:latin typeface="Arial"/>
              </a:rPr>
              <a:t>Active Learning Lecture Slid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509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9600"/>
            <a:ext cx="472428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7d509"/>
                </a:solidFill>
                <a:latin typeface="Arial"/>
              </a:rPr>
              <a:t>Elementary Statistic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venth Ed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the Triola Statistics Serie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Mario F. Tri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56852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3:                       Statistics for Describing, Exploring, and Compar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8480" y="3233880"/>
            <a:ext cx="2664000" cy="31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BE82-A7BD-42EE-9EDE-B5C7065144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16040" y="517680"/>
            <a:ext cx="801684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ekly sales for a company are $10,000 with a standard deviation of $450.  Sales for the past week were $9050.  Thi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usually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usually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6B2F-94AB-44D2-AD8E-BEE41C2617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16040" y="517680"/>
            <a:ext cx="801684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ekly sales for a company are $10,000 with a standard deviation of $450.  Sales for the past week were $9050.  Thi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unusually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usually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bout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9120" y="3794040"/>
            <a:ext cx="3427560" cy="8222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24E4-F289-4EC6-8F6D-3FC54F7547D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30240" y="609480"/>
            <a:ext cx="77868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data set with a range of 55.1 to 102.8 and 300 observations, there are 207 data points with values less than 88.6.  Find the percentile for 88.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6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08E2-308B-4526-ACCD-8A76956C689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30240" y="609480"/>
            <a:ext cx="77868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data set with a range of 55.1 to 102.8 and 300 observations, there are 207 data points with values less than 88.6.  Find the percentile for 88.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116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6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7880" y="4397400"/>
            <a:ext cx="1614600" cy="639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EE6D-01CE-495A-B28A-305878701B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1020600"/>
            <a:ext cx="8001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graphic display shows the least detailed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m-and-leaf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x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FBD8-9B3A-4C96-8FB7-2D1F98E1F85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020600"/>
            <a:ext cx="8001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graphic display shows the least detailed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Stem-and-leaf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x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2480" y="3933720"/>
            <a:ext cx="2346480" cy="7318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8B42-5128-4F70-87C8-0876961F5958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324324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57200"/>
            <a:ext cx="78487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measure of center is the only one that can be used with data at the nominal level of measur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4620-9021-4FFC-9067-3A454BEC64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324324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57200"/>
            <a:ext cx="78487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measure of center is the only one that can be used with data at the nominal level of measur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8320" y="3841920"/>
            <a:ext cx="2055960" cy="639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4007-FA0A-40C8-B641-AFBA223970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7480" y="1189080"/>
            <a:ext cx="8077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f the following measures of center is not affected by outl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88A4-FF60-43F5-B776-0788E7EE85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7480" y="1189080"/>
            <a:ext cx="8077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f the following measures of center is not affected by outl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8320" y="3508200"/>
            <a:ext cx="2055960" cy="6400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068A-8561-4488-8C6E-AAA7B84DE9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92000" y="67140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mode for the given sampl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, 25, 79, 13, 25, 29, 56,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77EE-6CB8-4BC8-9DCC-2C1CAB7488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92000" y="67140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mode for the given sampl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, 25, 79, 13, 25, 29, 56,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4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360" y="2556000"/>
            <a:ext cx="1400040" cy="639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4463-1180-402D-B04B-07EC06209A2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579600"/>
            <a:ext cx="7848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true about the vari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the square of the standard dev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a measure of the spread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units of the variance are different from the units of the original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not affected by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4401-71E7-41B0-9D64-37E8C6C83E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579600"/>
            <a:ext cx="7848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true about the vari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It is the square of the standard dev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It is a measure of the spread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The units of the variance are different from the units of the original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not affected by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4143240"/>
            <a:ext cx="6140520" cy="746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B981-C032-4354-8D6D-3AE7066AEC0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Marty Triola</dc:creator>
  <dc:description/>
  <dc:language>en-US</dc:language>
  <cp:lastModifiedBy>ustavch</cp:lastModifiedBy>
  <cp:lastPrinted>2001-11-04T00:51:13Z</cp:lastPrinted>
  <dcterms:modified xsi:type="dcterms:W3CDTF">2009-04-16T17:50:48Z</dcterms:modified>
  <cp:revision>150</cp:revision>
  <dc:subject>Statistics for Describing, Exploring, and Comparing Data</dc:subject>
  <dc:title>Chapter 3</dc:title>
</cp:coreProperties>
</file>